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DADA-40B4-47C7-8429-6316FECAB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BBDB-FD41-42F4-9135-E37767FE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1D3A-1335-42A7-AF35-EEBD06370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67DB-7B52-4112-A8E9-9AF3C009B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BDDD-1672-4929-B0A0-234BAA232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13FF-8B90-4D98-8D13-CE03B071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153B-1A04-46EF-BB3C-EC39D410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0996-FE12-4DFA-A7A6-BE8A1C3C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D3F6-56FB-49FD-B253-1BB0D94B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12CE-BD98-4022-B93D-8129AC93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C834-F19E-4A03-9518-65F3DDF4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7048-5A50-47A2-8412-2D9036E0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5A7BA-1004-4F8A-AE2F-46E878E2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FE9CD-C033-4D58-AF03-B557DC3E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A922-F966-45E9-923F-F014CE7C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F2CD-88DD-442A-894D-0296F8758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421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5A072-FEEA-4534-A687-E7F566ACA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104F-5D54-4D61-9947-CCD03DF1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5360-AA0A-46E1-8441-CC4E70A4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ECAC-F5BE-44B4-A93E-5CDFBC20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DA82-D2A8-49A1-84DF-3D9CE78C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4BEC-E7BB-4E2D-889B-27888885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21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BDB3-A934-47EF-A58F-7D1A32BC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21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7D2E-863D-498A-A996-1B1EFC17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46200" indent="-24840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994320" indent="-19872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392120" indent="-19872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789920" indent="-19872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789920" indent="-19872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789920" indent="-19872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6553-489C-44F2-8E66-249F35DA6C2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D5EB-E580-4D97-8056-5E27F008C03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hapters 26 &amp; 27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36480" y="3885840"/>
            <a:ext cx="426708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ofer Day!!!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reath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ollowing Sav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eeping track of money is importan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-2984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ccountants do that for a living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-2984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TIONAL INCOME ACCOUNTING involves doing it on a national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-2984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st common thing to follow is GDP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IGX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DP (or Y) = CIGX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r now we assume a CLOSED ECONOM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 foreign component (compared to OPEN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nipulating yields GDP-C-G=I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ince any money not spent (by us or gov’t) is saved it becom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 = I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aving = Invest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esn’t matter who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IVATE SAVING by u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UBLIC SAVING by gov’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sults w/ BUDGET SURPLUS as compared to BUDGET DEFICI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aving occurs when you don’t spen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vesting occurs when buy capita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T THE SAME THING…but are equal to each oth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y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reates a New Marke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aving supplies money to be loaned (supply curve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vesting creates demand to have money (demand curve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bine to form the LOANABLE FUNDS MARKE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icture i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happens when supply or demand changes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S&amp;I are key to futur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bsolutely must do i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helped cause the recession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ISSAVING rate for year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ov’t trying to correct th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ake” us do i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.  Saving Incentiv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urrent plan by Obama to match personal saving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.  Investment Incentiv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urrently count half of investment as tax credi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3.  Gov’t Budget Surplus/Defici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hhh ohhh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’s their impact on LF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8000"/>
          </a:bodyPr>
          <a:p>
            <a:pPr marL="301680" indent="-3016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.  Increases suppl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wers IR; more attractive to borrow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1680" indent="-3016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.  Increases deman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aises IR; less attractive to borrow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1680" indent="-3016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3.  Greatly Increases deman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aises IR; less attractive to borrow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nter the Federal Reserv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8000"/>
          </a:bodyPr>
          <a:p>
            <a:pPr marL="301680" indent="-3016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ow saving 5% as countr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ems huge, but still low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1680" indent="-3016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alanced by companies not investing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01680" indent="-3016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ov’t borrowing huge amount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01680" indent="-3016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R should go up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01680" indent="-3016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ld down by FED…discount rate at .25%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Dark side video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happens w/o FED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ov’t borrowing increases deman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-31896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creases IR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-31896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kes us less likely to borrow/spen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-31896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oal of their spending to increase GDP but doesn’t work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18960" indent="-31896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ROWDING OU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In theory it balance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hart on page 578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bt to GDP ratio predicted to drop to 15% by 2012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ere are we now??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reath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at is all of that stuff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o idea what Chapter 27 actually saying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e are going to focus on the RISK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isk is the perpetual bad guy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t does nothing positiv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duces spending, makes us uncomfortable, eliminates wealth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obody wants to lose mone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ISK AVERS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Understanding risk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Just like playing the lotter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isk spreading is very desirabl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d DIVERSIFICA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ase in poin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5000"/>
          </a:bodyPr>
          <a:p>
            <a:pPr marL="325800" indent="-32580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nk about insuranc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-32580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y buy insurance (any type)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-32580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ssentially betting that something bad will happe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-32580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f you win (&amp; it does) they pa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5800" indent="-32580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f you lose, they keep your money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 problems can aris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.  Adverse Selec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ose most likely to “win” also most likely to buy insuranc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.  Moral Hazar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ving insurance makes you more likely to use i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ct less safe b/c have insuranc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CAP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nswer the following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08520" indent="-30852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.  Why is saving/investing critical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08520" indent="-30852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.  What is the purpose of financial markets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08520" indent="-30852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3.  Draw the loanable funds graph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08520" indent="-30852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4.  Define crowding ou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Overview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763120" cy="426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iscussion of saving &amp; investing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y is it so importan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ere does it come from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w much does it cos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OANABLE FUNDS market graph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ROWDING OU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27 SLID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y does it all matter?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ast chapter focused on growth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w is that concept connected her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y is saving &amp; investing critical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UY CAPITAL, BUY CAPITAL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ore capital = higher productivit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igher productivity = higher outpu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igher output = more stuff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52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T SPENDING ALL YOUR MONEY IS CRITICA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RGOING PRESENT CONSUMPTION ALLOWS US TO INCREASE POTENITAL OUTPUT FOR THE FUTUR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K AT THE GRAPH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Need to not spend…it all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s GDP hurt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-2984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DP = C + I + G + X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-2984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en we don’t spend, we sav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-2984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happens to the leftover money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298440" indent="-29844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anks loan it to other people who want to borrow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inancial Intermediarie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ink about it as a pictur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NANCIAL SYSTEM  allows borrowers to connect w/ those w/ money to len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NANCIAL MARKETS involves these transactio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 most common:  Bond &amp; Stock Marke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ey’re both MARKET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overned by individual incentive &amp; supply/deman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ond Market:  essentially a loan to person looking to borrow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tock Market:  part ownership in the endeavor itself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ll about capital (money) going back &amp; forth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mind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-31536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oney &amp; currency are different…how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ONEY is anything that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683280" indent="-26280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dium of Exchange:  buy &amp; sell stuff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83280" indent="-26280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nit of Account:  comparing valu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83280" indent="-26280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ore of Value:  save for lat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15360" indent="-31536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nancial intermediaries include banks, credit unions, savings &amp; loan institutions, &amp; MUTUAL FUNDS (DIVERSIFICATION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02:01:14Z</dcterms:created>
  <dc:creator>Lewisburg Area School District</dc:creator>
  <dc:description/>
  <dc:language>en-US</dc:language>
  <cp:lastModifiedBy>Lewisburg Area School District</cp:lastModifiedBy>
  <dcterms:modified xsi:type="dcterms:W3CDTF">2010-01-29T15:53:22Z</dcterms:modified>
  <cp:revision>8</cp:revision>
  <dc:subject/>
  <dc:title>Chapters 26 &amp; 27</dc:title>
</cp:coreProperties>
</file>